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A23-52E4-4E54-ACAE-CEE68553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225-CC77-4D8F-977E-6BA24DE9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5A76-1172-4988-987A-0898E25B1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BB1-A092-4FF3-9B5B-E5EB6150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113-1708-46E2-B748-03A76E85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DEF-0168-40DA-956C-E042EB3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DA7-E67C-4DF3-AC69-B8E950D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BE9-F955-4185-A424-B9F49004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E919-B082-4DDD-BE17-9219FC9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EE5-485A-4493-91BC-9FA8D78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081-91BF-4A7D-9DE2-1C1A5028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247-E41D-4B8E-8CE0-343907EB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B2AF-C8EF-4B09-96D2-7C355170517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Istražimo svojstva elektriziranih tij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češalj privlači kosu, kada se češljam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odjeća od umjetnih vlakana prianja uz drugu odjeć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lijed čega papir ne možemo izvući ispod aluminijske fol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češalj i trok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, kada češalj približimo trokut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, kada natrljanu epruvetu približimo trokut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, kada obješenoj epruveti približimo drugu natrljanu epruvet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objasniti sve što ste opazi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rljanjem su se plastika i stakl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iziral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ličitu elektriziranost plastike i stakla možemo objasniti  postojanjem dviju vrsta električnih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abo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boj koji se trljanjem pojavljuje na plastici nazivamo negativnim (-), a na stalku pozitivnim (+) naboj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o koje nije elektrizirano, ima jednak pozitivan i negativan naboj, pa kažemo da je električki neutral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e negativno elektriziranom predmetu prbliži drugi negativno elektrizirani predmet, oni se odbij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e negativno elektriziranom predmetu približi pozitivno elektriziran predmet, oni se privlač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4716360" y="3429000"/>
            <a:ext cx="3816360" cy="288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4716360" y="1197000"/>
            <a:ext cx="37879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akle se stvorio naboj na natrljanim predmet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je li i krpica elektrizir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opaž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arivo i tijelo trljanjem se elektriziraju razbovrsnim naboj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to objasn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je trljanja predmeti su bil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ički neutraln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To znači da su imali jednake količine pozitivnog i negativnog naboja. Na površini predmeta nalazio se i pozitivan i negativan nabo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rljanjem s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dvojil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dio pozitivnih od negativnih nabo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4:30:37Z</dcterms:created>
  <dc:creator>Zdenka</dc:creator>
  <dc:description/>
  <dc:language>en-US</dc:language>
  <cp:lastModifiedBy>Zdenko</cp:lastModifiedBy>
  <dcterms:modified xsi:type="dcterms:W3CDTF">2014-07-18T09:22:37Z</dcterms:modified>
  <cp:revision>48</cp:revision>
  <dc:subject/>
  <dc:title>ELEKTRIČNI NABOJI I NJIHOVO MEĐUDJELOVANJE</dc:title>
</cp:coreProperties>
</file>